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152D-EE4A-4205-88BB-1A54ADFBDAF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97F-D7A8-4D68-B374-B5240BCA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958-33DB-4728-BD10-81E5959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9C-E297-4A26-887A-8F99F6D1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2A0-7BA2-445E-BB27-2BD199AD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7C6E-9E7B-4A93-A5FB-D53DB930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B16-D003-4FF4-A683-FED14C4E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C85-3DAD-4044-A5AB-358984D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AE1-8A6F-4EDA-A397-0F96CF6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F8A-523A-40C6-B9CC-242B09BD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006-D520-4BCB-AD27-A4206C7B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3B0C-0E8A-42AE-A983-2EC4104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DE0-E363-4436-8724-44A5B6A1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38EB-520A-401F-BD97-8391730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7B9-7BC0-4BE8-837D-5F3D353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DB6-6124-4EF2-B5C3-AAF2301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A9E-8F47-4780-8EC2-3FC43C75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FDAB-D32D-4C8B-BFA3-FA0B193A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C7A0-72A1-4CC7-B2A7-71610BC0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B847-F4D2-4DF8-B82D-4C2B017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0632-18D0-4EFB-BDD2-EE637805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3394-7643-4FF2-9C5B-D4DF773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6B7D-68A2-471B-BE79-760D686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01C-38D2-425B-8F9B-3472828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FD74-4C25-4F61-AE23-FAC13BE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A121-2FB4-44F3-AD6F-56080B3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7EA4-C7AA-41B2-9779-5420F44A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C01A-382F-4454-9FB2-B2B1EF0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1F21-0DF9-4ABA-BE94-5A0211F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1F78-38E5-4134-9F15-CD42C210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C25C-234A-482A-8430-5CCEF24B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FA5D-C972-4318-A439-92B23E0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FE96-E8AF-4765-9FC9-10F9410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7B83-E30B-4315-A164-16A1E304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79D-8C4C-4250-A347-5A84D741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BB2CB-05FD-49BB-9F17-F5EABF3B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F073-D38D-4093-A495-B6554864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FB3D-2786-4082-B5C5-220A408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ECEE-A51C-44E2-AD78-FFFC854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ADF6-46DC-4FCC-BCC6-2311675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0C41-0FD7-4624-ADC4-10B66CC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D2E1-4173-4C74-9ACD-0042189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C26C-00D4-4114-BB27-A35697B4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6D60-1E61-4401-8BFC-5BBE0C8D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1A7-645D-4C5D-84DE-7041A496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079-CF2C-4E88-9FEE-559A251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D82-2C21-4619-8DB7-09F61ED6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D9E-C8DF-4445-9EC6-EC35589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C55-6AA9-43D4-9E6B-C64CDDC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52CB4-5FB9-4FF3-8EE2-3CA91899C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C1B9-A92D-4760-906D-A1D9DBDCEE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30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3A5CA-FFB7-4071-87E5-E2E2514D426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9755B-F80E-47F2-85D7-2886863588B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:/Users/marc/Desktop/Osmosekraftwerk%20Referat/VideoOut.avi.WMV" TargetMode="External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Osmosekraft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945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1800" y="1440000"/>
            <a:ext cx="7558200" cy="52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040360" y="3600360"/>
            <a:ext cx="468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as Osmosekraftwerk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Aufbau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20720" y="1619280"/>
            <a:ext cx="864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Wasseraufbereit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alz- und Süßwasser werd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Filtration von grob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keln befre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 geschieht, damit d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pfindliche Membran n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gesetzt oder gar zersört w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962760" y="2160720"/>
            <a:ext cx="3117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r Druckaustaus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uck des Brackwasserablaufes wird für Salzwasserzulauf genutz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ies geschieht ohne Energieumwandlung unter Erhaltung des hydraulischen Dru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3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mbranschicht: Für Salzionen undurchläs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ützschicht: Druckstütze für Memb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96040" y="3240000"/>
            <a:ext cx="3424320" cy="30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0360" y="3060720"/>
            <a:ext cx="558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59640" y="2160720"/>
            <a:ext cx="3060720" cy="467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0720" y="3060720"/>
            <a:ext cx="5400720" cy="414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ellulose Acetat (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ünnfilm Composite (TF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Effizien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forderliche Membraneigenschaf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urchlässig für Was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durchlässig für Sal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Kostengünsti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ünn (Minimierung der inneren Reibu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nglebig(Resistent gegen Faul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Hohe Druckbeständigke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80000" y="468000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Funktionswei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73240"/>
            <a:ext cx="1007892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459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Berechnung des osmotischen Drucks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69920" y="2732040"/>
                <a:ext cx="28908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emperatu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Gaskonstante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der</m:t>
                        </m:r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eines</m:t>
                        </m:r>
                        <m:r>
                          <m:t xml:space="preserve">mündenden</m:t>
                        </m:r>
                        <m:r>
                          <m:t xml:space="preserve">Flusse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71520" y="5219640"/>
                <a:ext cx="7081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uck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0000" y="2332080"/>
                <a:ext cx="109368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80000" y="1800360"/>
                <a:ext cx="110808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echnun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80360" y="3240000"/>
                <a:ext cx="2458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mit</m:t>
                        </m:r>
                        <m:r>
                          <m:t xml:space="preserve"> </m:t>
                        </m:r>
                        <m:r>
                          <m:t xml:space="preserve">Einheit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</m:e>
                      <m:e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gleich</m:t>
                        </m:r>
                        <m:r>
                          <m:t xml:space="preserve"> </m:t>
                        </m:r>
                        <m:r>
                          <m:t xml:space="preserve">der</m:t>
                        </m:r>
                        <m:r>
                          <m:t xml:space="preserve"> </m:t>
                        </m:r>
                        <m:r>
                          <m:t xml:space="preserve">Atommasse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.</m:t>
                        </m:r>
                      </m:e>
                      <m:e/>
                      <m:e>
                        <m:r>
                          <m:t xml:space="preserve">Atommass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N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2,99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,453</m:t>
                        </m:r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,</m:t>
                        </m:r>
                        <m:r>
                          <m:t xml:space="preserve">daher</m:t>
                        </m:r>
                        <m:r>
                          <m:t xml:space="preserve"> </m:t>
                        </m:r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die</m:t>
                        </m:r>
                        <m:r>
                          <m:t xml:space="preserve"> </m:t>
                        </m:r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von</m:t>
                        </m:r>
                        <m:r>
                          <m:t xml:space="preserve"> </m:t>
                        </m:r>
                        <m:r>
                          <m:t xml:space="preserve">Na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8,42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  <m: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51200" y="3060720"/>
                <a:ext cx="290844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den>
                        </m:f>
                      </m:e>
                      <m:e/>
                      <m:e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5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99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Flus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017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6199200"/>
                <a:ext cx="2822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418,48</m:t>
                        </m:r>
                        <m: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940360" y="7189920"/>
                <a:ext cx="221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100</m:t>
                    </m:r>
                    <m:r>
                      <m:t xml:space="preserve">kP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 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14,18</m:t>
                        </m:r>
                        <m:r>
                          <m:t xml:space="preserve">b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79640" y="2160720"/>
                <a:ext cx="9763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gebe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35160" y="4680000"/>
                <a:ext cx="92556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such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Prototyp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0200" y="4500720"/>
            <a:ext cx="5238720" cy="3060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66 Membranröhren mit 2000m² Membranflä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-4 kW Gesamtleist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kosten von ca. 13mio.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Energielieferant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Sonnenstrahlung verdunstet Meerwas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Über Wolkenbildung und Niederschlag gelangt dieses Wasser durch Flüsse zurück ins M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n Flussmündungen kann nun ein Teil der von der Sonne gelieferten Energie durch Osmosekraftwerke in elektrische Energie umgewandelt we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zit: Global gesehen ist die Sonne somit der eigentliche Energieliefe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7280" y="21204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RD Beitrag zum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Osm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Aufbau und Funktionswe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Wirtschaftlichkeit, Entwicklungsstand,                  Effizienz und Umweltverträg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Übersicht über Effizienzeinflüsse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tischer Druck (Stoffmengenkonzentrationsunterschie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verlust durch innere Reibung im Rohr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Membranleistung und Kos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ge des Kraftwer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einsatz für Pumpen, Filteranla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ruckerzeugung für Effizienzsteigerung   (Druckumwandl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199280" y="3600360"/>
            <a:ext cx="25812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insetzbarkeit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2340000"/>
            <a:ext cx="7740720" cy="431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20000" y="1596960"/>
            <a:ext cx="3060720" cy="290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400880" y="4500720"/>
            <a:ext cx="26780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Standortbeisp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öhere Leistun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 Gewässern m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ohem Salzgeh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spiele: 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er, Mittelme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oßer Salzsee(Uta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34880" y="1800360"/>
            <a:ext cx="44244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nergiemarkt im Vergleich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79360" y="2228760"/>
            <a:ext cx="96012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Vor- und Nachteil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96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Vor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Erneuerbare und umweltfreundliche Energ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Überall dort einsatzfähig, wo Süßwasser auf                  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  Salzwasser triff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etterunabhängig, 24/7 Stromerzeug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Nach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Aufwendige Entwickl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it heutigem Entwicklungsstand kostenintensi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ögliche Zerstörung von Mikrokultu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Hoher Platzbedar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irkungsgrad: 25-3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Geschichte / Entwicklung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541520"/>
            <a:ext cx="907092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70er Jahre: Membran für die Entsalzung von Meerwasser wird                      entwickelt und dabei die Möglichkeit entdeckt,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Osmosekraft energietechnisch nutzbar machen zu                       kön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80er Jahre: Zwei Norweger erforschen die theoretischen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Möglichkeiten zur Erzeugung von Osmosekr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997: Zwei norwegische Firmen rufen ein Forschungssprojekt              ins Le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1: EU– Gelder für die Osmosekraftforsch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3: Statkraft meldet Patent für Osmosekraftmembran an und            errichtet Testan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: Prototypenbau in Tofte bei Os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vember 2009: Prototyp nimmt Betrieb a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Zukunftsaussichte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Kraftwerk von der Größe eines Fußballstadions könnte mit einer Leistung von 25 Megawatt 30.000 Haushalte versor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r Elbe wäre ein Osmosekraft schwer vorstellbar, da durch die Tiede eine weitläufige Brackwasserzone beste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tweites Potenzial von 1600 bis 1700 tW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21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m Osmosekraftwerk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2920" y="1488960"/>
            <a:ext cx="9070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------- 1 ------- ergibt. Diese Lösungen stellen ein Süßwasservorkommen (Fluss) und ein Salzwasservorkommen (------- 2 -------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---------- 3 ---------. Als Standorte eignen sich daher nur Orte an denen Süßwasser auf Salzwasser trifft, zum Beispiel        ------- 4 ------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------ 5 ------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Lös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ergibt. Diese Lösungen stellen ein Süßwasservorkommen (Fluss) und ein Salzwasservorkommen (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Energieausbeu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Als Standorte eignen sich daher nur Orte an denen Süßwasser auf Salzwasser trifft, zum Beispiel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Flussmünd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mbra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ffusion / Osmo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u-helmich.de/bio/cyt/reihe02/Diffusion2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edizinfo.de/arzneimittel/resorption/diffusion.s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diffus/diffus14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osmose/osmo11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mosekraftwer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-o.de/dossier-483-1.html / -483-4.html / -483-5.html / -483-6.html / -483-7.html / -483-8.html / -483-9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ardmediathek.de/ard/servlet/content/3517136?documentId=423203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energy-sources/osmotic-power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Osmotic%2009%20ENG_tcm9-4591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Waterpower_XVI_-_Power_production_based_on_osmotic_pressure_tcm9-5100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HYDRO%202009%20-%20Unleashing%20renewable%20energies%20from%20the%20ocean_tcm9-5099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Druckaustausch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Stoffmengenkonzent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Universelle_Gaskonstan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kss.de/public_relations/answers/osmose/index.html.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p.haw-hamburg.de/pers/Watter/ErneuerbareEnergie-Dateien/Osmosekraftwerke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buch-der-synergie.de/c_neu_html/c_06_11_wasser_salintaetsgradient_hydrosphaere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flickr.com/photos/44290727@N07/sets/72157622731791006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wendenenergie.de/Bilder/b_effizienz.jp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maps.google.com/maps/ms?ie=UTF8&amp;oe=UTF8&amp;msa=0&amp;msid=110988255057957786351.000458defae6b7147f5c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books.google.de/books?id=RjFLer1U7cAC&amp;printsec=frontcover&amp;dq=nachhaltige+energiesysteme++holger+watter&amp;cd=1#v=onepage&amp;q&amp;f=fal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92520" y="3060720"/>
            <a:ext cx="42274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D Beit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Osmose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iffusio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die willkürliche Molekularbewegung sind Moleküle und damit auch die Ionen in ständiger Beweg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ilchen vermischen sich, bis ein Gleichgewicht besteht, bzw. eine gleichmäßige Konz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ffusion ist ein langsamer aber fortlaufender Proz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03880" y="5029200"/>
            <a:ext cx="3695760" cy="23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0000" y="5400720"/>
            <a:ext cx="485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Diffusion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odell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inke Seite (rot) = Zucker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e Seite (blau) = Was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mbran lässt Wassermolekü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d Zuckerteilchen d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140360" cy="450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740720" y="5759280"/>
            <a:ext cx="2340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9640" y="395928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59640" y="900000"/>
            <a:ext cx="251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se = „Diffusion mit Hindernissen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ine semipermea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(halbdurchlässige) Membr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tellt das Hindernis d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s entsteht ein osmotischer Druc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Prozess kommt zum Stillstand, wenn osmotisches Gleichgewicht herrscht (p hydrostatisch = p osmotisch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64240" y="2070000"/>
            <a:ext cx="35164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nötigte Materia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1 Osm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cherg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pritzflasche mit Wa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20g Haushaltszu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Petrisc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ilzst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940360" y="2897280"/>
            <a:ext cx="2340000" cy="45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39160" y="161928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r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120680"/>
            <a:ext cx="907092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------- 1 -------, bei dem sich durch eine ständige und willkürliche Bewegung der Moleküle und gleichzeitige Übertragung dieser Bewegungsenergie auf die gelösten ------- 2 -------, eine Durchmischung einstellt. Diese Durchmischung ist fortlaufend, wobei sich das Konzentrationsgefälle in ein gleichmäßiges ------- 3 -------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-------- 4 -------- / halbdurchlässigen Membran in diesen Prozess eingebunden. Durch diese Membran gelangen nur bestimmte Teilchen, die eine ------- 5 ------- Größe nicht überschreiten. Somit entsteht auf einer Seite von der Membran ein ------- 6 ------- Druck, sofern ein Konzentrations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02920" y="1281240"/>
            <a:ext cx="9070920" cy="59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iffusio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bei dem sich durch eine ständige und willkürliche Bewegung der Moleküle und gleichzeitige Übertragung dieser Bewegungsenergie auf die gelöste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Ionen / Teilch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eine Durchmischung einstellt. Diese Durchmischung ist fortlaufend, wobei sich das Konzentrationsgefälle in ein gleichmäßiges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Konzentrationsverhältnis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semipermeabl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/ halbdurchlässigen Membran in diesen Prozess eingebunden. Durch diese Membran gelangen nur bestimmte Teilchen, die ein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efinier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Größe nicht überschreiten. Somit entsteht auf einer Seite von der Membran ei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osmotisch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Druck, sofern ein Konzentrations-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Marc Lingenhoff</cp:lastModifiedBy>
  <cp:lastPrinted>2010-04-25T20:00:37Z</cp:lastPrinted>
  <dcterms:modified xsi:type="dcterms:W3CDTF">2010-04-25T19:58:22Z</dcterms:modified>
  <cp:revision>131</cp:revision>
  <dc:subject/>
  <dc:title/>
</cp:coreProperties>
</file>